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FB0-24BD-4493-9087-DD2109C5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B1C-BC1D-45EE-B456-ABD49A8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7FC-7F59-4C74-B6CC-01C2B36C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D87-5C3E-4FFF-BD52-A654C93B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5453-00B9-4638-91DB-535A9984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637C-540D-4747-A257-C31B9CE6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420E-6539-4470-8EB7-AD94CF4B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00EC-6853-47D2-89A1-A9D7B7F3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88E9-E3B7-4068-92ED-59C9486D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CFA6-2A83-4A72-9C9F-33C8CCB9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3DE-40EF-42F0-BCC9-2B70AA3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F87-B72D-4901-9970-57F47F8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C59-AA6A-4A37-BDBF-56C0C9D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2065-530E-4E02-AC7E-ED416E6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4283-513D-4CE2-AA8A-C9033026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C04B-B09A-40FA-893D-D37D640B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64C6-3E75-4512-88A2-A9D0DC6C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79D-960C-4F3B-A2F2-D99A34B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ADA-54EF-4F6B-91F9-2B1AD4EB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83A-E314-4F66-9D11-6E01A2FD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01C-7B3E-463F-8A84-8FE569A0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95B-9FBA-47A7-8E6B-77ACE27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73C-ABBC-4F1E-B25D-32135BC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582-DB35-46DE-9548-1D477BB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2B0E-65D9-4FBE-B49C-D708EE270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1416-E963-43C2-8F93-4D6F0C878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nydergirottigrade5.weebly.com/" TargetMode="External"/><Relationship Id="rId3" Type="http://schemas.openxmlformats.org/officeDocument/2006/relationships/hyperlink" Target="http://snydergirottigrade5.weebly.com/" TargetMode="External"/><Relationship Id="rId4" Type="http://schemas.openxmlformats.org/officeDocument/2006/relationships/hyperlink" Target="http://snydergirottigrade5.weebly.com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nydergirottigrade5.weebly.com/immigration.html" TargetMode="External"/><Relationship Id="rId3" Type="http://schemas.openxmlformats.org/officeDocument/2006/relationships/hyperlink" Target="http://snydergirottigrade5.weebly.com/immigration.html" TargetMode="External"/><Relationship Id="rId4" Type="http://schemas.openxmlformats.org/officeDocument/2006/relationships/hyperlink" Target="http://snydergirottigrade5.weebly.com/immigration.html" TargetMode="External"/><Relationship Id="rId5" Type="http://schemas.openxmlformats.org/officeDocument/2006/relationships/hyperlink" Target="http://snydergirottigrade5.weebly.com/immigration.html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ll.com/us/k-12/p/latitude-2120/pd" TargetMode="External"/><Relationship Id="rId3" Type="http://schemas.openxmlformats.org/officeDocument/2006/relationships/hyperlink" Target="http://www.dell.com/us/k-12/p/latitude-2120/pd" TargetMode="External"/><Relationship Id="rId4" Type="http://schemas.openxmlformats.org/officeDocument/2006/relationships/hyperlink" Target="http://www.dell.com/us/k-12/p/latitude-2120/pd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Grant Application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ie Bal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dge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1371600"/>
          <a:ext cx="7315200" cy="4191120"/>
        </p:xfrm>
        <a:graphic>
          <a:graphicData uri="http://schemas.openxmlformats.org/drawingml/2006/table">
            <a:tbl>
              <a:tblPr/>
              <a:tblGrid>
                <a:gridCol w="2008080"/>
                <a:gridCol w="1971720"/>
                <a:gridCol w="1822320"/>
                <a:gridCol w="15130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C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Dell Latitude Netbook 2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50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15,090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Hewlett-Packard Officejet 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e-All-in one pr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9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495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15, 5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Evalua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680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d on the depth of implem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wide use in every major subjec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complete one major project in each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level online portfolios will be posted to the 5th grade web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http://snydergirottigrade5.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3"/>
              </a:rPr>
              <a:t>weebly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4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248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n digital skills is going to incr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do not allow our students to use technology in school then we are putting them at a disadvan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omputers will help our students gain necessary skills to make them marketable in years to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bdbd"/>
                </a:solidFill>
                <a:latin typeface="Arial"/>
              </a:rPr>
              <a:t>Bristol Borough School District</a:t>
            </a:r>
            <a:br>
              <a:rPr sz="3800"/>
            </a:br>
            <a:r>
              <a:rPr b="0" lang="en-US" sz="3400" spc="-1" strike="noStrike">
                <a:solidFill>
                  <a:srgbClr val="d3bdbd"/>
                </a:solidFill>
                <a:latin typeface="Arial"/>
              </a:rPr>
              <a:t>Snyder-Girotti Elementary School</a:t>
            </a:r>
            <a:br>
              <a:rPr sz="3400"/>
            </a:br>
            <a:r>
              <a:rPr b="0" lang="en-US" sz="3400" spc="-1" strike="noStrike">
                <a:solidFill>
                  <a:srgbClr val="d3bdbd"/>
                </a:solidFill>
                <a:latin typeface="Arial"/>
              </a:rPr>
              <a:t>5th Grade</a:t>
            </a:r>
            <a:endParaRPr b="0" lang="en-US" sz="34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mbria Italic"/>
              </a:rPr>
              <a:t>Moving in the Right Direc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roposal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Bristol Borough, Pennsylv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laptop computers to share among the 5th grade classrooms including the Learning Support Class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rinters one for each ro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d during academic peri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505320" cy="26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Goal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69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ive our students access to technology and integrate it across the curr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Statement of Need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pproximately 84 students in 5th gr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nough money for budget to include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en year old desktop computer per class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e economic backgrounds, many of our students do not have computer access at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deserve the opportunity to use technology in sch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28954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rogram Descrip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will be integrated across the curriculum to help deepen and enhance student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help support our curricular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have access to a multitude i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echnology-based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 them to the real world while teaching them 21st century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scrip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248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provide professional development to the 5th grade team of teac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making teachers proficient users of web 2.o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will be used on a daily basis with specific goals and objectives for their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will have access to greater web based computer interven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will complete one major computer based project each quarter using web 2.0 applications that align to the curriculu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http://snydergirottigrade5.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3"/>
              </a:rPr>
              <a:t>weebly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4"/>
              </a:rPr>
              <a:t>.com/immigration.html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5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Equipmen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Dell Latitude 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3"/>
              </a:rPr>
              <a:t>Netbook 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4"/>
              </a:rPr>
              <a:t>2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ble - rubberized c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inch Antiglare LED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wlett-Packard Officej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n one printer that would allow students to scan or pr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867280" y="4419720"/>
            <a:ext cx="2971800" cy="21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1:37:40Z</dcterms:created>
  <dc:creator>julie/balcer</dc:creator>
  <dc:description/>
  <dc:language>en-US</dc:language>
  <cp:lastModifiedBy>julie/balcer</cp:lastModifiedBy>
  <dcterms:modified xsi:type="dcterms:W3CDTF">2012-07-24T17:57:17Z</dcterms:modified>
  <cp:revision>4</cp:revision>
  <dc:subject/>
  <dc:title>Grant Application</dc:title>
</cp:coreProperties>
</file>